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BDD-D58D-44DF-8610-87CD7E6B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43D-C9ED-4FA1-9858-EF7E40D4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9E0-F1EF-4586-811E-DD50D393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77F-6B83-4C90-B64E-2BAC6E1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9B5-5676-43B7-A43B-8695F03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E6D7-C1EB-4D46-ABB3-8B68C5A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9ED3-A8BA-4177-B7B7-B27D390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977-35AF-49D0-B25E-B51DBC59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5B2E-4FBD-4510-A52A-32078D8E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D19-4399-40E1-A6CE-F70352A6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543C-5DF8-4841-9566-9C01093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0B1-CEF1-459C-9368-21F46DC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30E-B5BE-4B8F-9570-4A073F08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AFC-F669-4215-991D-A03581D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4F7-D713-4EA1-ACF7-F4CB71CF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DC4-B46F-4727-8715-645377DB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0D19-30A2-4CF1-8AA8-67D34195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E16-950F-473A-8671-FED5AE3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85E-1636-4991-ABC7-0D3956A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F6C-00F0-4E45-9B24-FFED27B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21D-E17B-4CE4-99D5-719DEBC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B34-13F3-4466-8164-FA845E29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40A-91EF-412E-976D-CF22032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36F-E181-4C48-B175-986249B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385-0795-4DB1-BA76-260E036646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8CF3-B8A2-4724-9FF6-C8F81DCBC6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287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bigproject%20copy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ROACHES AND STAGES IN PROBLEM SOLV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uctured problem-solving approa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Identify the problem/challeng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alyze the probl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reate probative questio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ather inform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dentify restraints/force field analysi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velop creative solu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rainstorm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No criticis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reewheelin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Quantity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171880" indent="-3430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mbinat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70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minal group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olo list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mbining/no evaluat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ank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iscuss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11880" indent="-31212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ecis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valuate solu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esirabilit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advantag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ask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sponsibiliti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mergenci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-3747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9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llowing u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eriodic evalu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436760" indent="-3121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vision as necessar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4870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velopmental stages in problem-solving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ient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merg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inforce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INTAINING POSITIVE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sic skil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ing cohesiven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hesiveness and productivit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9760" indent="-3351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oosting cohesivene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/compatible le goal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rogress toward goal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 norms and valu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ack of perceived internal threat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Interdependen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Outside threa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Mutual perceived attractiveness and friendship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508760" indent="-30168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hared group experienc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300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AND POWER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wer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ypes of po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egitimate power (position)/nominal lead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ercive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ward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xpert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erent pow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racteristics of po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roup-center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tribut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t either-o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makes leaders effectiv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ait analys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eadership sty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mmunication sty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uthoritaria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Democrat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aissez-fai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tuationa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eadership gri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roduction/task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209680" indent="-38088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ncern for relationship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ituational approac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hanging circumstanc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752480" indent="-38088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roup readines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COMING DANGERS IN GROUP DISCUS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tion under load and overlo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der lo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verlo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equal particip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vantages of particip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al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couraging particip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z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inforcem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ask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minal group techniqu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iscouraging unhelpful tal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ithhold reinforcem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sset desire to hear oth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63200" indent="-3326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hallenge relevanc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9856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essure to confor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ognizing groupthin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ducing groupthin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fter studying this chapter, you will better understan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The advantages of solving problems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haracteristics of several common discussion forma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ix basic problem-solving steps in the rational problem-solving meth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evelopmental stages in a problem-solving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actors that contribute to group cohesiven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actors that contribute to balanced participation in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various approaches to studying leadershi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 Solving Activity Proced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dividuals will have 20 seconds to list as many items in the bag as they can (no cheating!), I will call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fter 20 seconds, record items on your personal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ext member of the group has their tur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everyone has a turn, you will be giving as much time as you need as a group to share information and develop a grou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ew items in the bag and determine accuracy of individual lists and grou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lculate and report back to the class individual average, high, low, and group sco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62120" y="1589040"/>
          <a:ext cx="7924680" cy="4761000"/>
        </p:xfrm>
        <a:graphic>
          <a:graphicData uri="http://schemas.openxmlformats.org/drawingml/2006/table">
            <a:tbl>
              <a:tblPr/>
              <a:tblGrid>
                <a:gridCol w="2895480"/>
                <a:gridCol w="3276720"/>
                <a:gridCol w="17524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dividual Item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oup Item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dividual average: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oup Score: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3623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tivity Work She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y is there a difference in succes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was the difference in scor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were the factors that caused this differenc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the trade-off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709640"/>
          <a:ext cx="7696080" cy="438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09640"/>
                    <a:ext cx="769608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 SOLVING IN GROUPS: WHEN AND W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dvantages of group 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urac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mitment (participative decision making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to use group 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o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erdepend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ultiple solu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tential disagree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793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S OF PROBLEM-SOLVING FORMA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zz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blem cens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cus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liamentary procedu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nel discuss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mposi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70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olving Problems in Grou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uctured problem-solving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dentify the problem/challe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yze the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 creative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uate solu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llow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4T16:37:22Z</dcterms:created>
  <dc:creator>Mark S. Spencer</dc:creator>
  <dc:description/>
  <dc:language>en-US</dc:language>
  <cp:lastModifiedBy>Jerry Hill</cp:lastModifiedBy>
  <dcterms:modified xsi:type="dcterms:W3CDTF">2004-05-12T15:59:49Z</dcterms:modified>
  <cp:revision>8</cp:revision>
  <dc:subject/>
  <dc:title>Chapter 9 (last chapter)</dc:title>
</cp:coreProperties>
</file>