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D1C-A702-4A2B-A1E4-6EE34952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045-4C8C-4ED0-8A90-AA0AECBD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D8F-707A-4136-8B99-C7594078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3F3-C00F-4407-ADA1-F5BFBB2C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EDD-08BD-4A57-BDF3-A9A6663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2D6-3FF0-46D2-934E-0DAAF9D9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01F-24B2-4792-8850-E3A6044F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658-62D7-4DCC-8BBD-A8F4242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D27-4F11-4E90-BD21-4C307FC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0FD-0E9A-4CC9-9564-E30ADBB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B3E-038D-43BE-BAE4-5A779DC4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BB8-6F43-45E6-B829-0D5A596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F04B-930D-4D68-8BAF-D53015CE1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Expl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hrough a Student Centered Exploration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:  Semester long curriculum based on a activity based simulation to explore a fictitious planet or hostil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simulation to te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Discipline Interdependence and Sy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ing Space and Other Hostil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Method and Inqui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Engineer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Sen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 Str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chosen problem solving strategy used throughout the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problem/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reativ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s of the 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do we want to l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want to look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will we look for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buil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look for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we f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and Follow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T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s divided into functional teams as determined by the group.  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/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form and Data-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student teams to learn the different parts of the plat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 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m explore the components and develop software on individual Boards of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y become familiar with their systems, they share information with the rest of the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a planet surface for the si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ze with appropriate “things” to disc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 the Explorer with students are grou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modified BOT Instructor’s Board and Receiver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Robotics Platform and Data Collection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2667240" cy="2200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3143160" cy="22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3124080" cy="180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28954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6:26:25Z</dcterms:created>
  <dc:creator>Jerry Hill</dc:creator>
  <dc:description/>
  <dc:language>en-US</dc:language>
  <cp:lastModifiedBy>Mark S. Spencer</cp:lastModifiedBy>
  <dcterms:modified xsi:type="dcterms:W3CDTF">2008-01-07T17:51:03Z</dcterms:modified>
  <cp:revision>4</cp:revision>
  <dc:subject/>
  <dc:title>Let’s Explore</dc:title>
</cp:coreProperties>
</file>