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5BE-A854-4911-B1F2-75C2E914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F37-3FBD-4876-B173-413A681C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697-3B78-47AB-9BFC-E0993987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71A5-8A1D-4763-AE5A-23746910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2FBF-6A60-4EC6-9872-24020DD4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18E9-6708-45E0-8E41-548B3E2B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5966-4114-42D7-94B1-BF2B9DC0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8843-CB0B-4C61-B090-B569CD16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1408-5618-49B8-9FB3-2DD2A22B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E269-A868-4140-9E86-CDFD38FB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714F-A31D-4AB9-960D-4237ADA5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E70-02AF-4538-AF9F-BBD40260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77BC-3414-4549-8646-0AB8C1E0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D80A-C583-461C-AF9B-575D091E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7749-B4EE-4595-A95F-60D09E16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F0F8-C282-4B8A-A27A-916C07B4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CE09-3F8C-4312-9FC1-F8A87B36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4A35-57E7-4139-9FBE-2AB08C87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97D-A3EB-4DAE-B706-CFF062C3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DF8-60D9-4C4E-A2D8-71DD6D4C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7AAC-4F27-4B2F-9224-EEEBA004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344-AB2C-44D4-A576-9681C6E0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ACE-D56E-4288-B2E7-0FA873B2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7E1-6A25-4594-8E08-CA71B60B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9AD7-F146-4BB6-9F3D-21B83C5269A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2048-EBAC-46B8-B4A8-64E56D1AFA1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2287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bigproject%20copy" descr=""/>
          <p:cNvPicPr/>
          <p:nvPr/>
        </p:nvPicPr>
        <p:blipFill>
          <a:blip r:embed="rId1"/>
          <a:stretch/>
        </p:blipFill>
        <p:spPr>
          <a:xfrm>
            <a:off x="3429000" y="4572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67932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PPROACHES AND STAGES IN PROBLEM SOLV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ructured problem-solving approac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95280" indent="-38088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Identify the problem/challeng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95280" indent="-38088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alyze the proble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714680" indent="-3430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reate probative question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714680" indent="-3430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Gather informatio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714680" indent="-3430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Identify restraints/force field analysi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295280" indent="-38088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velop creative solu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714680" indent="-3430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rainstorm techniqu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4" marL="2171880" indent="-34308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No criticis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2171880" indent="-34308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Freewheelin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2171880" indent="-34308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Quantity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2171880" indent="-34308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Combination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2704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3" marL="1436760" indent="-3121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Nominal group techniqu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4" marL="1811880" indent="-31212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olo lists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1811880" indent="-31212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Combining/no evaluation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1811880" indent="-31212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Rank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1811880" indent="-31212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Discussion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1811880" indent="-31212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Decision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124640" indent="-3747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95000"/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valuate solu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436760" indent="-3121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Desirabilit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436760" indent="-3121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Implementatio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436760" indent="-3121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Disadvantag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24640" indent="-3747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95000"/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mplement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436760" indent="-3121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ask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436760" indent="-3121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sourc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436760" indent="-3121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sponsibiliti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436760" indent="-3121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Emergenci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24640" indent="-3747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95000"/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llowing u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436760" indent="-3121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Periodic evaluatio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436760" indent="-3121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vision as necessar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24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99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4870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804600" indent="-4021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velopmental stages in problem-solving grou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9760" indent="-3351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rient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9760" indent="-3351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flic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9760" indent="-3351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merge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9760" indent="-3351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inforcem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INTAINING POSITIVE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04600" indent="-4021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asic skill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04600" indent="-4021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uilding cohesivenes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9760" indent="-3351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hesiveness and productivit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9760" indent="-3351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oosting cohesivenes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08760" indent="-30168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hared/compatible le goals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3" marL="1508760" indent="-30168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Progress toward goals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3" marL="1508760" indent="-30168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hared norms and values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3" marL="1508760" indent="-30168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Lack of perceived internal threats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3" marL="1508760" indent="-30168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Interdependenc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3" marL="1508760" indent="-30168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Outside threa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3" marL="1508760" indent="-30168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Mutual perceived attractiveness and friendship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3" marL="1508760" indent="-30168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hared group experiences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0300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ADERSHIP AND POWER GROU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wer in grou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ypes of pow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Legitimate power (position)/nominal leade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oercive powe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ward powe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Expert powe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ferent powe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haracteristics of pow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Group-centered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Distributed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Not either-o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67932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at makes leaders effectiv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rait analysi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eadership sty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ommunication styl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4" marL="2209680" indent="-38088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Authoritarian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2209680" indent="-38088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Democratic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2209680" indent="-38088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Laissez-fair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2209680" indent="-38088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ituational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Leadership grid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4" marL="2209680" indent="-38088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Production/task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2209680" indent="-38088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Concern for relationships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ituational approach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hanging circumstanc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Group readines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7932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VERCOMING DANGERS IN GROUP DISCUSS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formation under load and overloa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56400" indent="-3693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der lo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56400" indent="-3693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verlo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nequal particip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56400" indent="-3693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dvantages of particip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56400" indent="-3693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al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56400" indent="-3693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ncouraging particip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63200" indent="-33264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iz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3" marL="1663200" indent="-3326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inforcemen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63200" indent="-3326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ask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63200" indent="-3326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Nominal group techniqu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256400" indent="-3693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iscouraging unhelpful tal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63200" indent="-3326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Withhold reinforcemen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63200" indent="-3326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Asset desire to hear other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63200" indent="-3326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hallenge relevanc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985680"/>
            <a:ext cx="77724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essure to confor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cognizing groupthin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ducing groupthin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67932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fter studying this chapter, you will better understand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The advantages of solving problems in grou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characteristics of several common discussion forma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six basic problem-solving steps in the rational problem-solving metho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developmental stages in a problem-solving grou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factors that contribute to group cohesivenes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factors that contribute to balanced participation in grou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various approaches to studying leadershi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blem Solving Activity Procedu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dividuals will have 20 seconds to list as many items in the bag as they can (no cheating!), I will call tim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fter 20 seconds, record items on your personal li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next member of the group has their tur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en everyone has a turn, you will be giving as much time as you need as a group to share information and develop a group li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iew items in the bag and determine accuracy of individual lists and group li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lculate and report back to the class individual average, high, low, and group sco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762120" y="1589040"/>
          <a:ext cx="7924680" cy="4761000"/>
        </p:xfrm>
        <a:graphic>
          <a:graphicData uri="http://schemas.openxmlformats.org/drawingml/2006/table">
            <a:tbl>
              <a:tblPr/>
              <a:tblGrid>
                <a:gridCol w="2895480"/>
                <a:gridCol w="3276720"/>
                <a:gridCol w="17524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dividual Item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oup Item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dividual average: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oup Score: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23623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ctivity Work She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y is there a difference in succes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at was the difference in score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at were the factors that caused this difference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at is the trade-off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4400" y="1709640"/>
          <a:ext cx="7696080" cy="4386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09640"/>
                    <a:ext cx="769608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7932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BLEM SOLVING IN GROUPS: WHEN AND W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dvantages of group problem solv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sourc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ccurac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mmitment (participative decision making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en to use group problem solv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Job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erdepende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ultiple solu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otential disagreem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67932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ES OF PROBLEM-SOLVING FORMA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uzz grou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blem censu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cus grou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rliamentary procedu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nel discuss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ymposiu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ru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52704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ructured problem-solving approa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Identify the problem/challen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alyze the probl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velop creative solu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valuate solu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llow u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4T16:37:22Z</dcterms:created>
  <dc:creator>Mark S. Spencer</dc:creator>
  <dc:description/>
  <dc:language>en-US</dc:language>
  <cp:lastModifiedBy>Jerry Hill</cp:lastModifiedBy>
  <dcterms:modified xsi:type="dcterms:W3CDTF">2004-05-12T15:59:49Z</dcterms:modified>
  <cp:revision>8</cp:revision>
  <dc:subject/>
  <dc:title>Chapter 9 (last chapter)</dc:title>
</cp:coreProperties>
</file>