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AD2B-FC02-43D5-99E8-FE41E6C98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16B8-52D7-4FCA-9C13-8C76EA1AB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2D67-E23A-4022-BA3C-C2C3E13B6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08EC-F50C-4AA5-9AF9-A8E3F7B3E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ACB7-535F-43D4-842D-8E18C735F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54B0-E84A-49A1-A02F-C71E5A8B2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B7D5-28EF-4FE9-AAD1-984AE4EEC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0FAB-B0B3-499F-ABCA-80F2F76BF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5305-BF26-4C74-8C28-C59D217D3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D46B-D7E5-48E2-98AD-0096BCF5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93F6-B66C-4D7D-B992-ED0C25485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6E25-2A42-4309-860D-43BB2AF9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248AD-3F5C-4442-AAD0-4F4E0BB949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’s Explo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Through a Student Centered Exploration Sim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rricul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ggested:  Semester long curriculum based on a activity based simulation to explore a fictitious planet or hostile enviro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use the simulation to tea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itical Thin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Problem Sol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oss Discipline Interdependence and Sy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oring Space and Other Hostile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ientific Method and Inqui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ience and Engineering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bo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te Sen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ctron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reless 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 Solving Stress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acher chosen problem solving strategy used throughout the sim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y the problem/challe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e the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 creativ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a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llow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ases of the  Sim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739440" indent="-739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re do we want to loo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3080" indent="-647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ting Go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39440" indent="-739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do we want to look f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3080" indent="-647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ting Objec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39440" indent="-739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will we look for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3080" indent="-647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ategy 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39440" indent="-739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t’s build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3080" indent="-647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n 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39440" indent="-739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t’s go look for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3080" indent="-647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n Exec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39440" indent="-739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did we fin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3080" indent="-647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and Follow-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39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9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udent Te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is divided into functional teams as determined by the group.  For 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der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ientific/Techn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s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tform and Data-li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udent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 student teams to learn the different parts of the platfor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 locomo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them explore the components and develop software on individual Boards of Edu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they become familiar with their systems, they share information with the rest of the te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im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up a planet surface for the simul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ze with appropriate “things” to disc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unch the Explorer with students are ground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the modified BOT Instructor’s Board and Receiver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Robotics Platform and Data Collection Displ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638680" y="4267080"/>
            <a:ext cx="2667240" cy="22003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114800" y="2057400"/>
            <a:ext cx="3143160" cy="22194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362320" y="4724280"/>
            <a:ext cx="3124080" cy="1809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62120" y="2133720"/>
            <a:ext cx="289548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3T16:26:25Z</dcterms:created>
  <dc:creator>Jerry Hill</dc:creator>
  <dc:description/>
  <dc:language>en-US</dc:language>
  <cp:lastModifiedBy>Mark S. Spencer</cp:lastModifiedBy>
  <dcterms:modified xsi:type="dcterms:W3CDTF">2008-01-07T17:51:03Z</dcterms:modified>
  <cp:revision>4</cp:revision>
  <dc:subject/>
  <dc:title>Let’s Explore</dc:title>
</cp:coreProperties>
</file>