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387F2-87CF-46A5-BD18-83AD874EA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2D65E-4CD5-4F59-8E3F-330900105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03372-20F8-4D82-AD8D-CDCC59E93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7D1F8-DEA4-476C-AE82-B5DE5FCAF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B6E39-63CC-495A-BB3D-072C69AA2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42FB1-D16B-4196-BFE8-217D66ABF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01E3F-B26B-474A-9773-84B782BE1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ACC2C-56A3-49F9-8FD8-ED138FB61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56408-5964-4C4C-B452-130F9ADBC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F1A26-947C-4874-80CB-C3AB7206B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AC495-A92D-49C4-B44A-69E3BE9DF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58A2E-1C1D-464C-BD11-FA224F36D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5425F-C7E9-4E22-87A7-80229E5125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r2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49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gmr" descr=""/>
          <p:cNvPicPr/>
          <p:nvPr/>
        </p:nvPicPr>
        <p:blipFill>
          <a:blip r:embed="rId1"/>
          <a:stretch/>
        </p:blipFill>
        <p:spPr>
          <a:xfrm>
            <a:off x="0" y="533520"/>
            <a:ext cx="9144000" cy="42987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09480" y="5257800"/>
            <a:ext cx="807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grammer Board, trace side, showing jumpers &amp; component loc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r2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740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219320" y="5181480"/>
            <a:ext cx="7315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eiver analog board, bottom view, with component locations in r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20T23:43:28Z</dcterms:created>
  <dc:creator>Tom Duncan</dc:creator>
  <dc:description/>
  <dc:language>en-US</dc:language>
  <cp:lastModifiedBy>R. J. (Bob) Schetgen, KU7G</cp:lastModifiedBy>
  <dcterms:modified xsi:type="dcterms:W3CDTF">1999-12-21T20:58:22Z</dcterms:modified>
  <cp:revision>6</cp:revision>
  <dc:subject/>
  <dc:title>No Slide Title</dc:title>
</cp:coreProperties>
</file>