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216-D731-4F10-8EB6-DF4D8E5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1C5-7F5E-4668-8907-8CEF8228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D57-20EE-4543-9BA2-638D26B6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A42-E547-4726-ADCC-AA43AEA7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4E8-ABE5-47FE-84F5-B8260FD5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7F8-188B-46C5-8FFD-3B34F6F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131-CF53-4D2A-96F9-BF396872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D04-780B-456C-89C0-69646AEA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431-7325-4078-85EB-EE5A696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BBE-8C03-4DCF-8925-882BBDC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C79-9A28-40BA-A44F-134BE97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B90-AEF1-482D-AA49-5F604DE6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81A9-1647-4B40-909B-21092A2EC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gmr1" descr=""/>
          <p:cNvPicPr/>
          <p:nvPr/>
        </p:nvPicPr>
        <p:blipFill>
          <a:blip r:embed="rId1"/>
          <a:stretch/>
        </p:blipFill>
        <p:spPr>
          <a:xfrm>
            <a:off x="1731960" y="2095560"/>
            <a:ext cx="56800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86000" y="51055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92” x 6.21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43200" y="502920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Logic Board Top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.37” x 5.9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ic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396040" cy="21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cvr" descr=""/>
          <p:cNvPicPr/>
          <p:nvPr/>
        </p:nvPicPr>
        <p:blipFill>
          <a:blip r:embed="rId1"/>
          <a:srcRect l="0" t="20671" r="0" b="0"/>
          <a:stretch/>
        </p:blipFill>
        <p:spPr>
          <a:xfrm>
            <a:off x="1828800" y="1494000"/>
            <a:ext cx="5551560" cy="28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590920" y="4800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oard Botto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.07” x 6.07” full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7:09:49Z</dcterms:created>
  <dc:creator>Tom Duncan</dc:creator>
  <dc:description/>
  <dc:language>en-US</dc:language>
  <cp:lastModifiedBy>R. J. (Bob) Schetgen, KU7G</cp:lastModifiedBy>
  <cp:lastPrinted>1999-10-06T20:20:56Z</cp:lastPrinted>
  <dcterms:modified xsi:type="dcterms:W3CDTF">1999-12-20T22:08:20Z</dcterms:modified>
  <cp:revision>5</cp:revision>
  <dc:subject/>
  <dc:title>No Slide Title</dc:title>
</cp:coreProperties>
</file>